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EB478-65F8-439B-91E5-CC5D79B65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45F65-2D73-497C-A463-98421A160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7B682-24AF-4368-91AC-D67344313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45A29-EF2F-4719-864F-204C93C17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6012F-E75C-457B-829F-EF7CC6CEB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A7884-1FCA-48EA-9CD9-4EC079266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F5E32-9F6A-4CB2-8DB6-AE8CABC69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C0998-F3E1-4059-8351-A96C0A464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76ED6-D8FF-433D-BFE6-729679B66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5556E-2AD1-497D-88FA-99BBCF919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207BC-AE7B-440F-A976-6070A57D5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8535D-21D2-4748-89B2-BBFA439BD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1FD6-DE5B-4935-B965-7A839D3510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152280"/>
            <a:ext cx="4876920" cy="137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cerpt from the book, </a:t>
            </a:r>
            <a:r>
              <a:rPr b="0" lang="en-US" sz="1200" spc="-1" strike="noStrike" u="sng">
                <a:solidFill>
                  <a:srgbClr val="000000"/>
                </a:solidFill>
                <a:uFillTx/>
                <a:latin typeface="Times New Roman"/>
                <a:ea typeface="Times New Roman"/>
              </a:rPr>
              <a:t>The Dawn: Political Teachings of the Book of Esther</a:t>
            </a:r>
            <a:r>
              <a:rPr b="0" lang="en-US" sz="1200" spc="-1" strike="noStrike">
                <a:solidFill>
                  <a:srgbClr val="000000"/>
                </a:solidFill>
                <a:latin typeface="Times New Roman"/>
                <a:ea typeface="Times New Roman"/>
              </a:rPr>
              <a:t> by Yoram Hazon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rections: Read the following excerpt and type a one page short essay answering all the questions at the end of the reading.  Remember use the text to support your answ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718320"/>
          </a:xfrm>
          <a:prstGeom prst="rect">
            <a:avLst/>
          </a:prstGeom>
          <a:ln w="0">
            <a:noFill/>
          </a:ln>
        </p:spPr>
      </p:pic>
      <p:sp>
        <p:nvSpPr>
          <p:cNvPr id="44" name=""/>
          <p:cNvSpPr/>
          <p:nvPr/>
        </p:nvSpPr>
        <p:spPr>
          <a:xfrm>
            <a:off x="5029200" y="5334120"/>
            <a:ext cx="396252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228600"/>
            <a:ext cx="4800600" cy="3890880"/>
          </a:xfrm>
          <a:prstGeom prst="rect">
            <a:avLst/>
          </a:prstGeom>
          <a:ln w="0">
            <a:noFill/>
          </a:ln>
        </p:spPr>
      </p:pic>
      <p:pic>
        <p:nvPicPr>
          <p:cNvPr id="46" name="" descr=""/>
          <p:cNvPicPr/>
          <p:nvPr/>
        </p:nvPicPr>
        <p:blipFill>
          <a:blip r:embed="rId2"/>
          <a:stretch/>
        </p:blipFill>
        <p:spPr>
          <a:xfrm>
            <a:off x="0" y="4114800"/>
            <a:ext cx="4762440" cy="789120"/>
          </a:xfrm>
          <a:prstGeom prst="rect">
            <a:avLst/>
          </a:prstGeom>
          <a:ln w="0">
            <a:noFill/>
          </a:ln>
        </p:spPr>
      </p:pic>
      <p:sp>
        <p:nvSpPr>
          <p:cNvPr id="47" name=""/>
          <p:cNvSpPr/>
          <p:nvPr/>
        </p:nvSpPr>
        <p:spPr>
          <a:xfrm>
            <a:off x="4724280" y="533520"/>
            <a:ext cx="4419720" cy="510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ssay Questio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 According to Hazony, why has the term and reasons given for Anti-Semitism failed to really describe the hatred faced by the Jewish people?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 According to Hazony, what is the reason for both Pharaoh and Haman’s burning hatred for the Jewish people and rage?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 What is unique about the Biblical text, the Jewish people and their beliefs, which tends to lead rulers who seek complete and total control to come into conflict with the Jewish people?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 What parallels can you draw between Hazony’s view of the source of Jewish hatred and the Nazis obsession with the destruction of the Jewish people?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 Finally, by seeking the total destruction of Jewry, using Hazony’s premise, what might the Nazis have been seeking to do for themselv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06:05:43Z</dcterms:created>
  <dc:creator>tamian</dc:creator>
  <dc:description/>
  <dc:language>en-US</dc:language>
  <cp:lastModifiedBy>dzoppo</cp:lastModifiedBy>
  <dcterms:modified xsi:type="dcterms:W3CDTF">2009-05-20T21:19:44Z</dcterms:modified>
  <cp:revision>6</cp:revision>
  <dc:subject/>
  <dc:title>Slide 1</dc:title>
</cp:coreProperties>
</file>